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ather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Heather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0DF92-D0DF-4155-AC69-9742BDEC05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rding to the search engine watch, a site with information on all available search engines, there are more than 5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A212-0FD6-4EB4-B12B-431F09F8B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Heather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8566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6894-035F-427F-AB60-EB94CE9DC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Heather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916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916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405D-5EA5-4F33-B383-71611FA3C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Heather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700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700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9722-8695-4196-8A3A-C88518672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0D5FA-56C5-4435-B2A2-EE1B7B8BE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Heather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3DC7D-EA89-476D-8694-74C390DA5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Heather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B8723-5FED-40A2-9530-3B61D2D53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Heather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916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D9AA7-B857-4E36-8862-2F0F4CB39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Heath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2B1DE-8DD8-4694-B2BF-6641AA0AA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7668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300E7-2420-4A0E-80D0-6170F1D12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Heather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916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C164A-6678-444F-B7E4-75BEB08F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Heather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1A2A-AD9C-4F92-A03F-09D446E71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Heather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916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916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C4BDB-7848-4753-888E-74286430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Heather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916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38566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B940A-9A5A-4E43-B33C-688AAE70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Heather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38566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3B560-69D6-4BC4-83F2-4F54DF38F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Heather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916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916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D4D7E-B18B-4401-B830-A5E4BDE62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Heather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456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2700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456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2700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48858-8F16-4604-8332-ABAD116D5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Heather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786E-A6E2-4568-BEE4-F457EA28F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Heather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916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7CDA-1F48-4A2C-A913-7ACE8DD40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Heath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AC3C-56F4-41FF-BAC4-5F227224F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7668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F57D-5E76-44FC-B819-F219AB12F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Heather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916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2FB8-9B61-4B87-BDEA-923EED4D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Heather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916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916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B1E5-88A2-4080-943E-76807EC8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Heather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916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8566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ABDD-EB75-45BA-88B5-84C702E9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212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ather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Heather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A428D-F715-4F52-9F86-512EB10AA4ED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581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ather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Heather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9086A-8177-4E03-8DF2-B6295C42F66B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earchenginewatch.com/3634991" TargetMode="External"/><Relationship Id="rId3" Type="http://schemas.openxmlformats.org/officeDocument/2006/relationships/hyperlink" Target="http://searchenginewatch.com/3634923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1828440"/>
            <a:ext cx="8991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ather"/>
              </a:rPr>
              <a:t>Distance Learning Tool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Heather"/>
              </a:rPr>
              <a:t>an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Heather"/>
              </a:rPr>
              <a:t>Role of Internet in Education</a:t>
            </a:r>
            <a:endParaRPr b="0" lang="en-US" sz="4000" spc="-1" strike="noStrike">
              <a:solidFill>
                <a:srgbClr val="000000"/>
              </a:solidFill>
              <a:latin typeface="Heather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441936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kes University – Emerging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thy W. Dow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tober 26, 20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ather"/>
              </a:rPr>
              <a:t>Brief History of the Internet</a:t>
            </a:r>
            <a:endParaRPr b="0" lang="en-US" sz="4000" spc="-1" strike="noStrike">
              <a:solidFill>
                <a:srgbClr val="000000"/>
              </a:solidFill>
              <a:latin typeface="Heather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lebrating 40 y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ww vs.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 Brow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saic – first web browser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refox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ternet Explorer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afari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ather"/>
              </a:rPr>
              <a:t>URL (</a:t>
            </a:r>
            <a:r>
              <a:rPr b="0" lang="en-US" sz="3200" spc="-1" strike="noStrike">
                <a:solidFill>
                  <a:srgbClr val="000000"/>
                </a:solidFill>
                <a:latin typeface="Heather"/>
              </a:rPr>
              <a:t>Uniform Resource Locators</a:t>
            </a:r>
            <a:r>
              <a:rPr b="0" lang="en-US" sz="3600" spc="-1" strike="noStrike">
                <a:solidFill>
                  <a:srgbClr val="000000"/>
                </a:solidFill>
                <a:latin typeface="Heather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Heather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rcRect l="0" t="3637" r="1820" b="66063"/>
          <a:stretch/>
        </p:blipFill>
        <p:spPr>
          <a:xfrm>
            <a:off x="457200" y="1371600"/>
            <a:ext cx="8229600" cy="19051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133720" y="32767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ttp://www.nasa.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00440" y="3795840"/>
            <a:ext cx="685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48320" y="3809880"/>
            <a:ext cx="685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10080" y="3809880"/>
            <a:ext cx="685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4419720"/>
            <a:ext cx="31244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o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government ag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12._.u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public 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military ag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57800" y="4422600"/>
            <a:ext cx="31240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d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Austral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ather"/>
              </a:rPr>
              <a:t>Search Engines</a:t>
            </a:r>
            <a:endParaRPr b="0" lang="en-US" sz="4000" spc="-1" strike="noStrike">
              <a:solidFill>
                <a:srgbClr val="000000"/>
              </a:solidFill>
              <a:latin typeface="Heather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jor search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oog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aho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k Network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tacrawl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gp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usty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tBo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arto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mm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2"/>
              </a:rPr>
              <a:t>http://searchenginewatch.com/3634991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3"/>
              </a:rPr>
              <a:t>http://searchenginewatch.com/3634923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4"/>
          <a:srcRect l="1454" t="21544" r="2872" b="17296"/>
          <a:stretch/>
        </p:blipFill>
        <p:spPr>
          <a:xfrm>
            <a:off x="3962520" y="1905120"/>
            <a:ext cx="4817880" cy="2309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ather"/>
              </a:rPr>
              <a:t>Videoconferencing/e-learning</a:t>
            </a:r>
            <a:endParaRPr b="0" lang="en-US" sz="4000" spc="-1" strike="noStrike">
              <a:solidFill>
                <a:srgbClr val="000000"/>
              </a:solidFill>
              <a:latin typeface="Heather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and h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kype, NetMeeting, Yahoo! Messenger, iCha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High-speed connection advised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more in higher education that K-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-12 is starting to be more commo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ex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ree t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ToMeeting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ree t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luminat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– free t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a, Wimba, Blackboard, WebCT, Digital Chalk -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ather"/>
              </a:rPr>
              <a:t>Engaging Collaborative Activities</a:t>
            </a:r>
            <a:endParaRPr b="0" lang="en-US" sz="3600" spc="-1" strike="noStrike">
              <a:solidFill>
                <a:srgbClr val="000000"/>
              </a:solidFill>
              <a:latin typeface="Heather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 particip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 learning te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activities inter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’t settle for opin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 a deliver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 what you’re aiming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peer gra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ather"/>
              </a:rPr>
              <a:t>Presentations</a:t>
            </a:r>
            <a:endParaRPr b="0" lang="en-US" sz="4000" spc="-1" strike="noStrike">
              <a:solidFill>
                <a:srgbClr val="000000"/>
              </a:solidFill>
              <a:latin typeface="Heather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93348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eping our Kids Safe on the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rah and Jennifer V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Effectiveness of Distance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ry and EJ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tfalls of Internet Use and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ephanie and Vic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cating on the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enn M. and Heath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iquet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na and Tiffany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ial Bookmar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th and Jennifer S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yright and Plagiarism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annon and Amy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1T23:40:16Z</dcterms:created>
  <dc:creator>Customer</dc:creator>
  <dc:description/>
  <dc:language>en-US</dc:language>
  <cp:lastModifiedBy>Customer</cp:lastModifiedBy>
  <dcterms:modified xsi:type="dcterms:W3CDTF">2009-11-01T23:32:42Z</dcterms:modified>
  <cp:revision>30</cp:revision>
  <dc:subject/>
  <dc:title>Slide 1</dc:title>
</cp:coreProperties>
</file>